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185BB-476F-48E0-876E-DD3460CD9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6B71-899C-44FB-850E-6CD4DFEA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79FB6-898F-44DF-8953-08383AB5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7DB43-20AB-40DF-993F-6D84831D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4D1D-66CA-4975-951E-B461146E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5D81-D08C-4917-A983-D776797C5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FBF19-9455-4F9E-A713-2FBC86D9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E749-FFD5-4C2E-A1D2-85E5524B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F1C7-CE1C-46BB-BBB2-9A958063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6393-9BD2-4086-88E4-A7AC174C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9A686-5E64-4EEB-B758-269D0F3B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A53BB-489A-4B00-9743-F9B2B926E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95CC-50C2-4F0E-AAFB-70D2AFB43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MAIE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Gabriel Erice, Unai Franco, Olatz Cadarso, Iñigo Osteikoetxea, Jon Gonzalez eta Raquel Va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31T12:48:32Z</dcterms:modified>
  <cp:revision>10</cp:revision>
  <dc:subject/>
  <dc:title>Diapositiva 1</dc:title>
</cp:coreProperties>
</file>